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047F5644-17D1-4118-B9CE-DFD3BAF37D8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38B0F922-A504-4E6E-A419-75848B097DD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1028880" y="2050920"/>
            <a:ext cx="29145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xercise 2: Using Data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Instr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Student 14’s development time for program 5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tal estimated time = (Estimated size)/(historical LOC/hou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the total defects Student 14 will likely inje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2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injected = (5A estimated size)*(Defects to date)/(Size to date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 how long Student 14 will spend in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 startAt="3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in test = (Total estimated time)*(% time in test)/10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7078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 the exercise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two to four to answer the ques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one, we will discuss the questions as a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3376440" y="5025960"/>
            <a:ext cx="2363400" cy="879480"/>
            <a:chOff x="3376440" y="5025960"/>
            <a:chExt cx="2363400" cy="879480"/>
          </a:xfrm>
        </p:grpSpPr>
        <p:sp>
          <p:nvSpPr>
            <p:cNvPr id="136" name="Rectangle 5"/>
            <p:cNvSpPr/>
            <p:nvPr/>
          </p:nvSpPr>
          <p:spPr>
            <a:xfrm>
              <a:off x="3852000" y="5338800"/>
              <a:ext cx="18878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4760" rIns="104760" tIns="52560" bIns="52560" anchor="t">
              <a:sp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buClr>
                  <a:srgbClr val="39536b"/>
                </a:buClr>
                <a:buFont typeface="Arial"/>
                <a:buChar char=" "/>
                <a:tabLst>
                  <a:tab algn="l" pos="1033560"/>
                  <a:tab algn="l" pos="2066760"/>
                  <a:tab algn="l" pos="3100320"/>
                  <a:tab algn="l" pos="4133880"/>
                  <a:tab algn="l" pos="5167440"/>
                  <a:tab algn="l" pos="6200640"/>
                  <a:tab algn="l" pos="7234200"/>
                  <a:tab algn="l" pos="8267760"/>
                  <a:tab algn="l" pos="9301320"/>
                  <a:tab algn="l" pos="10334520"/>
                </a:tabLst>
              </a:pPr>
              <a:r>
                <a:rPr b="1" lang="en-US" sz="2400" spc="-1" strike="noStrike">
                  <a:solidFill>
                    <a:srgbClr val="39536b"/>
                  </a:solidFill>
                  <a:latin typeface="Arial"/>
                </a:rPr>
                <a:t>20 minutes</a:t>
              </a:r>
              <a:endParaRPr b="0" lang="en-US" sz="2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1"/>
            <a:stretch/>
          </p:blipFill>
          <p:spPr>
            <a:xfrm>
              <a:off x="3376440" y="5025960"/>
              <a:ext cx="649440" cy="879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id you estimate for program 5A development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you estimate Student 14 will inject while writing program 5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long will Student 14 likely spend in unit 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do your estimates compare with the actual results and what could have caused the differen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be the likely consequences of inaccurate or incomplete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5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Objectiv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s the value of PSP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llustrates ways to use these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s the value of having complete and accurat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first describe the data gathered by a software developer and describe how these data can b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then provide some developer data and ask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to answer som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Data Gather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 provides an easy way for team members to record their time, size, defect, and task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are the same data they learn to gather and use with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is tool, the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when they start and stop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 each defect when found and fix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size of each product when it is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date when each task is comp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PSP and TSP Pla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historical data, develop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otal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is time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total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 defect estimates over the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stimating process works because develop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t a fairly consistent LOC/hour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nd roughly the same amount of time in each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ject about the same number of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Form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720" y="1722240"/>
            <a:ext cx="7410240" cy="47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TSP forms summarize all of a team’s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 form shows the team’s schedule performance for every projec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Q (quality summary) form summarizes the quality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P (plan summary) form holds the time, size, and defect data for each system, product, and product compon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ercise only uses the data on the SUMP form.  Exercises 3 and 4 use the WEEK and SUMQ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600360" y="1538280"/>
            <a:ext cx="4913280" cy="5097600"/>
          </a:xfrm>
          <a:prstGeom prst="rect">
            <a:avLst/>
          </a:prstGeom>
          <a:ln w="0">
            <a:noFill/>
          </a:ln>
        </p:spPr>
      </p:pic>
      <p:sp>
        <p:nvSpPr>
          <p:cNvPr id="107" name="Oval 4"/>
          <p:cNvSpPr/>
          <p:nvPr/>
        </p:nvSpPr>
        <p:spPr>
          <a:xfrm>
            <a:off x="4541760" y="1538280"/>
            <a:ext cx="1714680" cy="5968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685800" y="1708200"/>
            <a:ext cx="2743200" cy="34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Project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3514680" y="17938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Oval 7"/>
          <p:cNvSpPr/>
          <p:nvPr/>
        </p:nvSpPr>
        <p:spPr>
          <a:xfrm>
            <a:off x="4884840" y="2220840"/>
            <a:ext cx="1285920" cy="153828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685800" y="2819520"/>
            <a:ext cx="274320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iz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3514680" y="2905200"/>
            <a:ext cx="941400" cy="169920"/>
          </a:xfrm>
          <a:prstGeom prst="rightArrow">
            <a:avLst>
              <a:gd name="adj1" fmla="val 50000"/>
              <a:gd name="adj2" fmla="val 13850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4970520" y="3844800"/>
            <a:ext cx="1285920" cy="2478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5800" y="4870440"/>
            <a:ext cx="27525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Time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3514680" y="4954680"/>
            <a:ext cx="941400" cy="171360"/>
          </a:xfrm>
          <a:prstGeom prst="rightArrow">
            <a:avLst>
              <a:gd name="adj1" fmla="val 50000"/>
              <a:gd name="adj2" fmla="val 137342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SUMP Form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713120" y="1538280"/>
            <a:ext cx="3084840" cy="4935600"/>
          </a:xfrm>
          <a:prstGeom prst="rect">
            <a:avLst/>
          </a:prstGeom>
          <a:ln w="0">
            <a:noFill/>
          </a:ln>
        </p:spPr>
      </p:pic>
      <p:sp>
        <p:nvSpPr>
          <p:cNvPr id="119" name="Oval 5"/>
          <p:cNvSpPr/>
          <p:nvPr/>
        </p:nvSpPr>
        <p:spPr>
          <a:xfrm>
            <a:off x="5827680" y="153828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4284720" y="2478240"/>
            <a:ext cx="1371600" cy="169560"/>
          </a:xfrm>
          <a:prstGeom prst="rightArrow">
            <a:avLst>
              <a:gd name="adj1" fmla="val 50000"/>
              <a:gd name="adj2" fmla="val 202229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160" bIns="381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371600" y="44434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remov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827680" y="3673440"/>
            <a:ext cx="1714680" cy="19652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4284720" y="4613400"/>
            <a:ext cx="1371600" cy="171360"/>
          </a:xfrm>
          <a:prstGeom prst="rightArrow">
            <a:avLst>
              <a:gd name="adj1" fmla="val 50000"/>
              <a:gd name="adj2" fmla="val 200105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371600" y="589428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Summary information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4370400" y="5979960"/>
            <a:ext cx="1371600" cy="171720"/>
          </a:xfrm>
          <a:prstGeom prst="rightArrow">
            <a:avLst>
              <a:gd name="adj1" fmla="val 50000"/>
              <a:gd name="adj2" fmla="val 199686"/>
            </a:avLst>
          </a:prstGeom>
          <a:solidFill>
            <a:srgbClr val="87abb9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5742000" y="5810400"/>
            <a:ext cx="1714320" cy="512640"/>
          </a:xfrm>
          <a:prstGeom prst="ellipse">
            <a:avLst/>
          </a:pr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5999040" y="426960"/>
            <a:ext cx="2743200" cy="590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ata used in the exerci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371600" y="2468520"/>
            <a:ext cx="2486160" cy="3466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Bodoni Bd BT"/>
              </a:rPr>
              <a:t>Defects injected dat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720" y="1704600"/>
            <a:ext cx="741024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14 has completed writing 4 of the PSP course programs and is planning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given a SUMP form with the data for Student 14’s first four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UMP form shows the actual time, size, and defect data for programs 1 through 4 and the distribution of these  data among the development ph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also given Student 14’s size estimate for program 5A (112 new and changed LOC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exercise, you use these data to produce part of the estimate for program 5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4:44:26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7:46Z</dcterms:modified>
  <cp:revision>28</cp:revision>
  <dc:subject>24 July 2001 / 3:30pm</dc:subject>
  <dc:title>PowerPoint Presentation</dc:title>
</cp:coreProperties>
</file>